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10.png" ContentType="image/png"/>
  <Override PartName="/ppt/media/image3.pct" ContentType="image/x-pict"/>
  <Override PartName="/ppt/media/image7.jpeg" ContentType="image/jpeg"/>
  <Override PartName="/ppt/media/image12.jpeg" ContentType="image/jpeg"/>
  <Override PartName="/ppt/media/image4.pct" ContentType="image/x-pict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6471-7317-463E-93CC-C4A013B5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FCC7-5FAA-4CB6-99A5-A80A5A13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D3FE-B3AB-4FC2-8FE9-16D17AB80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623E-F688-432A-9DF1-6567816A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B308-60E6-48D6-AB62-06EE4A85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DBBB-5A49-4C62-8C34-8AB68844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ADCD-CE4E-49B9-B128-393B3BF5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373B-601A-442E-A7E5-7D3E45F9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9627-51BC-444F-8C82-AFB64F3C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C9F7-B968-4320-87D3-849374A1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2DC8-4118-49DC-91CE-3D41C37B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CCE0-CF9B-403F-84ED-621BCAD7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3042-A304-4DE9-A450-2121ABB7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EE0E-1720-41B0-9E58-2303B221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366F-EA7A-4E13-9337-3DF19837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7A22-A9FC-43DF-9019-42759FEF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8BC4-2BF0-4AE4-AA41-B8DC3C9D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26CE-4D5D-488E-84B7-0171F43A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4BC9-17A4-4BC5-9883-C546A6FA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4549-B55C-447C-B306-4F15CA21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FE4B-29F5-4A8E-BADE-18E68EF5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2C94-0009-4F52-BD22-7A040570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9122-D2AB-47A2-9176-BA1130F9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0B9B-7DD9-4903-B916-EB392A35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819520" y="4800600"/>
              <a:ext cx="6237000" cy="2048040"/>
              <a:chOff x="2819520" y="4800600"/>
              <a:chExt cx="6237000" cy="204804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3600360" y="6245280"/>
                <a:ext cx="1013040" cy="598320"/>
                <a:chOff x="3600360" y="6245280"/>
                <a:chExt cx="1013040" cy="5983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3600360" y="6245280"/>
                  <a:ext cx="1013040" cy="59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7c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3673440" y="6283440"/>
                  <a:ext cx="862200" cy="52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3716280" y="6316560"/>
                  <a:ext cx="795240" cy="4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bc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3759120" y="6345360"/>
                  <a:ext cx="704880" cy="4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786120" y="6357960"/>
                  <a:ext cx="65556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fd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3868560" y="6391440"/>
                  <a:ext cx="4860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3930480" y="6438960"/>
                  <a:ext cx="3603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bce"/>
                    </a:gs>
                    <a:gs pos="100000">
                      <a:srgbClr val="0088e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4035600" y="6504120"/>
                  <a:ext cx="14256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bce"/>
                    </a:gs>
                    <a:gs pos="100000">
                      <a:srgbClr val="0088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" name=""/>
              <p:cNvSpPr/>
              <p:nvPr/>
            </p:nvSpPr>
            <p:spPr>
              <a:xfrm>
                <a:off x="58514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91516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00408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067440" y="6184800"/>
                <a:ext cx="41580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612144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67540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6584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5599080" y="6200640"/>
                <a:ext cx="14148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5665680" y="5945040"/>
                <a:ext cx="119088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6408720" y="5907240"/>
                <a:ext cx="15228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6627960" y="6429240"/>
                <a:ext cx="285480" cy="209520"/>
              </a:xfrm>
              <a:custGeom>
                <a:avLst/>
                <a:gdLst/>
                <a:ahLst/>
                <a:rect l="l" t="t" r="r" b="b"/>
                <a:pathLst>
                  <a:path w="179" h="132">
                    <a:moveTo>
                      <a:pt x="0" y="132"/>
                    </a:moveTo>
                    <a:lnTo>
                      <a:pt x="29" y="132"/>
                    </a:lnTo>
                    <a:lnTo>
                      <a:pt x="77" y="108"/>
                    </a:lnTo>
                    <a:lnTo>
                      <a:pt x="119" y="78"/>
                    </a:lnTo>
                    <a:lnTo>
                      <a:pt x="155" y="48"/>
                    </a:lnTo>
                    <a:lnTo>
                      <a:pt x="179" y="12"/>
                    </a:lnTo>
                    <a:lnTo>
                      <a:pt x="173" y="6"/>
                    </a:lnTo>
                    <a:lnTo>
                      <a:pt x="167" y="0"/>
                    </a:lnTo>
                    <a:lnTo>
                      <a:pt x="137" y="42"/>
                    </a:lnTo>
                    <a:lnTo>
                      <a:pt x="101" y="78"/>
                    </a:lnTo>
                    <a:lnTo>
                      <a:pt x="53" y="108"/>
                    </a:lnTo>
                    <a:lnTo>
                      <a:pt x="0" y="132"/>
                    </a:lnTo>
                    <a:lnTo>
                      <a:pt x="0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3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207120" y="6267600"/>
                <a:ext cx="13320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7216920" y="5727600"/>
                <a:ext cx="822240" cy="506520"/>
                <a:chOff x="7216920" y="5727600"/>
                <a:chExt cx="822240" cy="5065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7216920" y="5727600"/>
                  <a:ext cx="822240" cy="50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267680" y="5762520"/>
                  <a:ext cx="707760" cy="43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8be3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7318440" y="5794200"/>
                  <a:ext cx="612720" cy="37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388280" y="5838840"/>
                  <a:ext cx="473040" cy="28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fd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7445520" y="5870520"/>
                  <a:ext cx="35244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7521480" y="5918040"/>
                  <a:ext cx="20016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3db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6105-6DFB-4B3E-A968-DC49D12D669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6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819520" y="4800600"/>
              <a:ext cx="6237000" cy="2048040"/>
              <a:chOff x="2819520" y="4800600"/>
              <a:chExt cx="6237000" cy="204804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3600360" y="6245280"/>
                <a:ext cx="1013040" cy="598320"/>
                <a:chOff x="3600360" y="6245280"/>
                <a:chExt cx="1013040" cy="59832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3600360" y="6245280"/>
                  <a:ext cx="1013040" cy="59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7c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673440" y="6283440"/>
                  <a:ext cx="862200" cy="52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716280" y="6316560"/>
                  <a:ext cx="795240" cy="4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bc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759120" y="6345360"/>
                  <a:ext cx="704880" cy="4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786120" y="6357960"/>
                  <a:ext cx="65556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fd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868560" y="6391440"/>
                  <a:ext cx="4860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930480" y="6438960"/>
                  <a:ext cx="3603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bce"/>
                    </a:gs>
                    <a:gs pos="100000">
                      <a:srgbClr val="0088e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035600" y="6504120"/>
                  <a:ext cx="14256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bce"/>
                    </a:gs>
                    <a:gs pos="100000">
                      <a:srgbClr val="0088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58514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91516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00408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067440" y="6184800"/>
                <a:ext cx="41580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12144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67540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86584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599080" y="6200640"/>
                <a:ext cx="14148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665680" y="5945040"/>
                <a:ext cx="119088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408720" y="5907240"/>
                <a:ext cx="15228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627960" y="6429240"/>
                <a:ext cx="285480" cy="209520"/>
              </a:xfrm>
              <a:custGeom>
                <a:avLst/>
                <a:gdLst/>
                <a:ahLst/>
                <a:rect l="l" t="t" r="r" b="b"/>
                <a:pathLst>
                  <a:path w="179" h="132">
                    <a:moveTo>
                      <a:pt x="0" y="132"/>
                    </a:moveTo>
                    <a:lnTo>
                      <a:pt x="29" y="132"/>
                    </a:lnTo>
                    <a:lnTo>
                      <a:pt x="77" y="108"/>
                    </a:lnTo>
                    <a:lnTo>
                      <a:pt x="119" y="78"/>
                    </a:lnTo>
                    <a:lnTo>
                      <a:pt x="155" y="48"/>
                    </a:lnTo>
                    <a:lnTo>
                      <a:pt x="179" y="12"/>
                    </a:lnTo>
                    <a:lnTo>
                      <a:pt x="173" y="6"/>
                    </a:lnTo>
                    <a:lnTo>
                      <a:pt x="167" y="0"/>
                    </a:lnTo>
                    <a:lnTo>
                      <a:pt x="137" y="42"/>
                    </a:lnTo>
                    <a:lnTo>
                      <a:pt x="101" y="78"/>
                    </a:lnTo>
                    <a:lnTo>
                      <a:pt x="53" y="108"/>
                    </a:lnTo>
                    <a:lnTo>
                      <a:pt x="0" y="132"/>
                    </a:lnTo>
                    <a:lnTo>
                      <a:pt x="0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3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207120" y="6267600"/>
                <a:ext cx="13320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7216920" y="5727600"/>
                <a:ext cx="822240" cy="506520"/>
                <a:chOff x="7216920" y="5727600"/>
                <a:chExt cx="822240" cy="5065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7216920" y="5727600"/>
                  <a:ext cx="822240" cy="50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267680" y="5762520"/>
                  <a:ext cx="707760" cy="43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8be3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318440" y="5794200"/>
                  <a:ext cx="612720" cy="37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388280" y="5838840"/>
                  <a:ext cx="473040" cy="28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fd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445520" y="5870520"/>
                  <a:ext cx="35244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521480" y="5918040"/>
                  <a:ext cx="20016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3db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DF1B-C751-4CE3-87A6-2DA3C01773A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Arial"/>
              </a:rPr>
              <a:t>Ocean Acidification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Climate Change Collaborative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447560" y="3276720"/>
            <a:ext cx="6553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cia Bernhard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mes F. Doughty Schoo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im Frati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mon Middle Sch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cy Vassilie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mes F. Doughty School &amp; William S. Cohen Sch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amie Tardi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mon High Sch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114800" y="2438280"/>
            <a:ext cx="1219320" cy="717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5328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Thank You</a:t>
            </a:r>
            <a:br>
              <a:rPr sz="40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The Maine Department of Education</a:t>
            </a:r>
            <a:br>
              <a:rPr sz="32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Mathematics &amp; Science Partnership Grants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lenger Learning Center of Ma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s. Annette Brickl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ity of Ma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. Molly Schauff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. Deirdre Byr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. Fei Ch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s. Carrie Armbre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s. Lisa Schult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8320" y="2133360"/>
            <a:ext cx="403848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gor School Depar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. Betsy Web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. Donna Wol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mon School Depar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rs. Patricia Dur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mate Change Collaborative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4876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dle School, High School, Technical School and Univers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essional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nt 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dagogical Content 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Group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ean acidific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019920" y="4343400"/>
            <a:ext cx="2438280" cy="838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019920" y="1828800"/>
            <a:ext cx="2438280" cy="2438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Focusing a Climate Change Issu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05120" y="5486400"/>
            <a:ext cx="533376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CNew.com Cl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Macintosh HD:Users:teacher:Desktop:W9cS0rl_NyI.mov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333760" cy="4000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Essential Question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es an increase in atmospheric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ffect our oceans and what role does climate change have in ocean chemist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276720" y="3352680"/>
            <a:ext cx="2514600" cy="2324160"/>
          </a:xfrm>
          <a:prstGeom prst="rect">
            <a:avLst/>
          </a:prstGeom>
          <a:ln w="28440">
            <a:solidFill>
              <a:srgbClr val="ffffff"/>
            </a:solidFill>
            <a:miter/>
          </a:ln>
          <a:effectLst>
            <a:outerShdw dist="107932" dir="18900000" blurRad="0" rotWithShape="0">
              <a:srgbClr val="008ae8"/>
            </a:outerShdw>
          </a:effectLst>
        </p:spPr>
      </p:pic>
      <p:sp>
        <p:nvSpPr>
          <p:cNvPr id="223" name=""/>
          <p:cNvSpPr/>
          <p:nvPr/>
        </p:nvSpPr>
        <p:spPr>
          <a:xfrm>
            <a:off x="1600200" y="571500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shiftingbaselines.org/blog/imagges/pt_warming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Frontloading Activities</a:t>
            </a:r>
            <a:br>
              <a:rPr sz="44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Jim Fratini @ Hermon Middle School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ike as a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ean impact on Earth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ing &amp; Resear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act of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n Ocean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safety and protoc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4038480" cy="30286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8ae8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2C Lesson</a:t>
            </a:r>
            <a:br>
              <a:rPr sz="36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Buffer Properties of Seawater Inquiry Guide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illed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drop at a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dium Hydrox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etic Aci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erly used wide range pH pa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phed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8ae8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tudent Work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2133360" cy="16002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038320" cy="20955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2895480" y="2666880"/>
            <a:ext cx="5867640" cy="36673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6553080" y="914400"/>
            <a:ext cx="1905120" cy="15318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ccomplishment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forced student processing sk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qui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ing &amp; Extrapolating from grap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awing conclu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king real world conne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aring Students for High School and Colle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8ae8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rofessional Growth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934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dagogical Content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qui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Preconceptions &amp; Giving Evi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 Processing Sk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ing vertical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553080" y="1523880"/>
            <a:ext cx="1371600" cy="808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3048120" y="4343400"/>
            <a:ext cx="2982960" cy="2236680"/>
          </a:xfrm>
          <a:prstGeom prst="rect">
            <a:avLst/>
          </a:prstGeom>
          <a:ln w="9360">
            <a:solidFill>
              <a:srgbClr val="afe1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5791320" y="3124080"/>
            <a:ext cx="2971800" cy="2292480"/>
          </a:xfrm>
          <a:prstGeom prst="rect">
            <a:avLst/>
          </a:prstGeom>
          <a:ln w="9360">
            <a:solidFill>
              <a:srgbClr val="afe1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9:19:54Z</dcterms:created>
  <dc:creator>Michael Nolette</dc:creator>
  <dc:description/>
  <dc:language>en-US</dc:language>
  <cp:lastModifiedBy>Tracy  Vassiliev</cp:lastModifiedBy>
  <cp:lastPrinted>2009-05-12T09:05:12Z</cp:lastPrinted>
  <dcterms:modified xsi:type="dcterms:W3CDTF">2010-04-08T21:32:23Z</dcterms:modified>
  <cp:revision>17</cp:revision>
  <dc:subject/>
  <dc:title>Ocean Acidification Climate Change Collaborative</dc:title>
</cp:coreProperties>
</file>